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50F9-0957-48BF-A298-7EF694886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E036-ABF6-49D4-9E55-8AFAD6A75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7E4C-0E96-424D-A783-7E7D7A9DD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2509-917A-4A9E-827E-9A686B163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3042-4399-482C-9ADE-7D1BA116D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4A93-9DD8-4E88-86C8-6E1FB5D3A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8912-3EAB-4DE1-998A-E352DA278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3E34-F396-4B45-832D-F0EF059FD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36A2-8027-4D46-81E1-44AA143AC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E363-4787-48A3-A9B1-568DBA37A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837B-8F72-4ED0-8C33-04D6F5D07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66AE-258A-4497-85C3-ACA9ECC98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413D8-BA7B-49DD-B64F-761F678C3C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ONCAMERE EMILIA-ROMAGNA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work ragionerie – gruppo di lavoro “nuovo regolamento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.P.R. 254/0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ime riflession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osta di WORK FLOW di programma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000" y="1988640"/>
            <a:ext cx="8218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PROGRAMMA PLURIENNALE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(art.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Obiettivi di priorità strategica (</a:t>
            </a:r>
            <a:r>
              <a:rPr b="0" i="1" lang="it-IT" sz="1600" spc="-1" strike="noStrike">
                <a:solidFill>
                  <a:srgbClr val="000000"/>
                </a:solidFill>
                <a:latin typeface="Arial"/>
              </a:rPr>
              <a:t>pluriennali di mandat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Risultati da conseguire nell’arco del mandato (</a:t>
            </a:r>
            <a:r>
              <a:rPr b="0" i="1" lang="it-IT" sz="1600" spc="-1" strike="noStrike">
                <a:solidFill>
                  <a:srgbClr val="000000"/>
                </a:solidFill>
                <a:latin typeface="Arial"/>
              </a:rPr>
              <a:t>responsabilità polit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Risorse disponibili nei 5 ann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AGGIORNAMENTO ANNUALE (art.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Predisposizione Relazione Previsionale Programmat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ndividuazione degli obiettivi strategici annuali, coerenti con il programma pluriennale e con le priorità in esso contenu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Redazione dei programmi annuali di intervento di specificazione delle finalità che si intendono perseguire nell’ann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ndicazione dei risultati da conseguire nell’anno(STEP DEL PLURIENNAL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Risorse annuali disponibil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REVENTIVO ECONOMICO (artt. 6 e 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Riclassificazione per funzione istituzion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Relazione al preventivo (art.7)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* informazione sui proventi, oneri e piano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nvestimenti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* informazione sui criteri di ripartizione p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unzione istituzional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*determinazione delle risorse economich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destinate ai programmi annuali (da R.P.P.)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BUDGET DIREZIONALE (artt. 8 – 9 e 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) Attribuzione risorse e programmi alla dirigen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 rot="16200000">
            <a:off x="4210560" y="2708280"/>
            <a:ext cx="360360" cy="144360"/>
          </a:xfrm>
          <a:prstGeom prst="rightArrow">
            <a:avLst>
              <a:gd name="adj1" fmla="val 50000"/>
              <a:gd name="adj2" fmla="val 6240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286000" y="3108240"/>
            <a:ext cx="523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ividuazione del piano di 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rot="16200000">
            <a:off x="4175640" y="3824280"/>
            <a:ext cx="360360" cy="144360"/>
          </a:xfrm>
          <a:prstGeom prst="rightArrow">
            <a:avLst>
              <a:gd name="adj1" fmla="val 50000"/>
              <a:gd name="adj2" fmla="val 6240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 rot="10800000">
            <a:off x="1474920" y="4075560"/>
            <a:ext cx="698976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Inteso come </a:t>
            </a: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progetti/attività/iniziative/contribu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) Indicazione alla dirigenza dei risultati d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seguire    (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esponsabilità gestiona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 rot="16200000">
            <a:off x="4248000" y="5337000"/>
            <a:ext cx="360360" cy="144720"/>
          </a:xfrm>
          <a:prstGeom prst="rightArrow">
            <a:avLst>
              <a:gd name="adj1" fmla="val 50000"/>
              <a:gd name="adj2" fmla="val 6225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77000"/>
            <a:ext cx="799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Indicatori di attività e risultato sull’andamento dei program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Indicatori di efficienza, efficacia, economicit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GA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125000"/>
            <a:ext cx="4038480" cy="25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ONSIGLIO 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(artt. 4-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sponsabile della stesura del programma plurienna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ndividua obiettivi di priorità strategica ed i risultati da consegu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sponsabile della scelta annuale degli obiettivi priorit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ndividua le linee guida per la definizione dei programmi di interv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00720" y="1341000"/>
            <a:ext cx="464328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OLLEGIO REVISORI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(artt.29-3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esponsabile del controllo amministrativo-contabile-fi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539280" y="3716280"/>
            <a:ext cx="39560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GIUNTA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Responsabile della valutazione strategica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art. 3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redispone il preventivo economico (art. 6-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Assegna alla dirigenza (art.8)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Bud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rogrammi di interv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isultati da consegu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356000" y="3500280"/>
            <a:ext cx="4788000" cy="30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O DI VALUTAZIONE STRATEGICA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art. 3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gano tecnico di supporto alla Giun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ividua gli indicatori di attività e risultato sui programm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iferisce periodicamente alla Giunta con relazioni periodiche, annuali (anche a Presidente e Collegio revisori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nitora la qualità dei servizi erogati ed il grado di soddisfazione dell’utenz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nisce alla Giunta elementi di giudizio per la valutazione della dirigenz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140360" y="4149720"/>
            <a:ext cx="718920" cy="358920"/>
          </a:xfrm>
          <a:prstGeom prst="leftRightArrow">
            <a:avLst>
              <a:gd name="adj1" fmla="val 50000"/>
              <a:gd name="adj2" fmla="val 398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GRETARIO GENERALE E DIRIGEN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ponsabili della gestione e del realizzo dei programmi assegnati dalla Giun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no valutati dalla Giunta per il tramite di indicazioni fornite dall’Organo di valutazione strateg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ividuano il “Piano d’azione” per la realizzazione dei program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427640" y="1600200"/>
            <a:ext cx="4465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NTROLLO DI GESTIONE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art.3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Verifica e monitora il piano d’azione dei dirigenti inteso com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Arial"/>
              </a:rPr>
              <a:t>Progetti/attività/iniziative/contribu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Monitora gli indicatori di efficienza, efficacia, economicità dell’azione amministra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upporta l’organo di valutazione strateg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1T10:08:55Z</dcterms:created>
  <dc:creator> </dc:creator>
  <dc:description/>
  <dc:language>en-US</dc:language>
  <cp:lastModifiedBy>pinid</cp:lastModifiedBy>
  <cp:lastPrinted>2006-06-23T08:50:46Z</cp:lastPrinted>
  <dcterms:modified xsi:type="dcterms:W3CDTF">2006-06-23T08:51:14Z</dcterms:modified>
  <cp:revision>4</cp:revision>
  <dc:subject/>
  <dc:title>UNIONCAMERE EMILIA-ROMAGNA Network ragionerie – gruppo di lavoro “nuovo regolamento”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851560829</vt:r8>
  </property>
  <property fmtid="{D5CDD505-2E9C-101B-9397-08002B2CF9AE}" pid="3" name="_AuthorEmail">
    <vt:lpwstr>cristina.sandri@fe.camcom.it</vt:lpwstr>
  </property>
  <property fmtid="{D5CDD505-2E9C-101B-9397-08002B2CF9AE}" pid="4" name="_AuthorEmailDisplayName">
    <vt:lpwstr>Cristina Sandri</vt:lpwstr>
  </property>
  <property fmtid="{D5CDD505-2E9C-101B-9397-08002B2CF9AE}" pid="5" name="_EmailSubject">
    <vt:lpwstr/>
  </property>
</Properties>
</file>